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FA3-0155-487E-8364-87768699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9E3-7D45-4B75-BF5F-09E759CB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96B-B488-4A6F-866E-0A4572D0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0D7-8821-4021-9829-30A6447D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DC6-EFD5-4336-81A1-686F4B52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A3CA-D62A-4E46-AD52-D0A54E62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93AD-F252-4942-821B-8564B584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D5F4-BE42-4263-A756-E2D95BB4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32F-E5DF-4A21-A78F-B8C85944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7D1-7ABE-4F0E-949C-D75202DD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470-6956-48C1-A632-1A1AE43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D0A-4B7A-46C5-B754-30E39226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E9F2-D55B-4020-ACA3-E178378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9F46-4319-44F9-893B-B4B64F5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6CF8-4C88-4F1B-B89D-54D61C7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D22-2BE2-4891-AF54-91F0A55D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F42F-C572-4717-B04D-3E383D17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4EF1-8402-41AE-967E-99B75BD0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383F-9A70-44EB-9F52-62F1EF7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7918-3AE0-4C3E-9534-2F9BE035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EF07-0AC0-49C0-970D-830D95DD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D711-4921-44E0-8D02-6A9B5E1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3EB-A34B-48AB-B4F2-0B9A9E0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3466-91A8-4F11-A0F4-D2AFA871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2E32-6488-47F4-BD79-F01121B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BD86-B606-447D-AA57-4335F68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4E63-8F12-4845-89CB-44083F2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E1F1-C69A-4179-A70E-34AEF4D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8A6C-D213-4775-8724-6F4C4FE6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B0B1-D6D6-472B-B86F-ECFD8701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30FE-D745-4617-AEA7-3B5EC431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A9D4-BEA1-4BBD-9C5C-AB85FE11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5FE8-37D6-440C-815A-71F32DD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022-62CE-4095-8626-9E55168C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AF6B-46F7-41FA-9434-FFFBB6E4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6B92-9F13-4674-8324-61B8A8C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600B-484B-4276-8D07-6577CBD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D438-DC64-4D28-AE88-7BA8482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5690-1FF6-4E0B-A89D-EEC9C4C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460D-E47C-425C-9092-9AE4ABC0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040F-DC9E-48CE-BFCF-1672B4F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BBBD-6389-4E1F-82B0-B32267AB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9FAB-BE61-496C-B7F0-3394AE59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CE85-E206-44D7-860B-AAC07161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3C0-0EB9-4623-86E7-27E6F99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9BD8-7129-440D-ADE1-5FB1F1EB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DE6D-8928-4C01-BD9F-60D52A0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600F-35BF-4075-BDC2-63B290F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740E-442A-4AD6-919E-0ADA9398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BA06-2659-4ABD-A781-A2AE3AF5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6DEB-CD08-4B3C-BCEE-8BBF560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1B56-1F56-4792-BFD0-48F2B59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79D3-5D1E-4436-9F59-F45386D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668A-4BE3-41F0-A198-BFCFF650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BBDAB-172E-4F00-92B2-62F7EA2A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10B-30C5-4F64-BFA3-69428E28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D88F6-D3D8-4FE7-96BB-9F8D9827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E26C-AA1E-4F67-975F-7CFC0EC3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DC26-0A89-4BC9-A1E7-493CCF90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8974-3AEA-40BE-9E16-824A1C4D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6A35-F181-4685-8DB9-2F6A2DE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D126-A964-483B-90E0-8414CFF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09D3-3335-4C8B-9976-CD203D94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1806-86B1-4FF0-ACF7-DE6A486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A15D-A9C3-461F-9355-6C8843D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A7E9-9553-40FC-A55E-034F96B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12A-17F0-40E7-A6D6-B8BF063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FE99-7729-4CF9-8C1F-8628CDDC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20A6-C90D-45A9-A961-CEEC3586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6F65-7E6F-4738-9353-2B7EA936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1A2-BD5A-4174-834D-49A1B37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E15-663F-4E2A-AC2C-1E962EC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773B-5319-45FC-8AF6-829C0FE6BD4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DA01-AE03-4146-8F50-CC822B959AC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E7F-79B4-4A48-857F-3F5FA7FFE9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5E9-19F5-49AA-8FB8-B4660391A7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DD4-0A51-461C-8AA1-E86E0A6EA7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6D4-1432-4B68-AAB3-953D067F014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752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Darwin Didn’t K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ally D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y idea was variation in offspring – mechanism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day, we understand concepts of gamete formation, random mutation of germ line, “switches”, HOX genes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ore data that is gathered, the more evidence is provided for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uses of Micro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ardy-Weinberg principle states that there are five requirements for st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y deviation from the requirements below indicates the population is evolv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y large population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lation from other popul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net mu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ndom m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natural se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nitor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now the question becomes, how do we watch for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all the Hardy-Weinberg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also an equation which can predict the relative frequencies of alleles in a gene p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agine a wildflower population of 500 pl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this, there are pink allel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completely dominant over white allel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 are white, so they would b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20 ar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0 ar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14444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7924680" y="2819520"/>
            <a:ext cx="9954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they are dipliod, the pink allele accounts for 800 of the 1000, and white 200 of the 1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can use math to determine relative frequencies in the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y deviation from that means the population is evolv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tten disease is a rare recessive neurodegenerative disease, affecting 3 out of every 100 000 people in North America.  Based on this knowledge, what percentage of people are carriers and could pass it onto their offspr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sw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fine the dominant, normal allel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recessiv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occurrence is 3 out of 100 000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.0000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frequency of recessive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√0.00003 = 0.0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requency of the dominant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0.005 = 0.9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 frequency of carriers would be 2</a:t>
            </a:r>
            <a:r>
              <a:rPr b="0" i="1" lang="en-CA" sz="30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=2 x 0.995 x 0.005 = 0.00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, approximately 1% of the population are carriers for this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Example (try on your own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t is believed that approximately 4% of Canadians of South American decent are carriers for the recessive condition sickle cell anemia.  If 98% of the alleles in this population are dominant, what should the prevalence of sickle cell anemia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edictions From Darwin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ural Selection is the only significant mechanism of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olutionary change is slow and grad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evolutionary change is ado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croevolution is the same as mi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riticis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ve absence in fossil record of any transition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nctuated Equilibrium (Steven Jay Gould) proposed as an altern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sible limits to genetic var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so much could be contributed to random, small change in g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lended inheri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vorable variation “swamped out” by backcrossing with “ordinari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571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adaptive tra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peacock’s tail - more energy to make, attractive to predators, et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rwin’s response was sexual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716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videnc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rwin had a multitude of evidence he could point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itially, it answered most questions critics h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over time it wasn’t en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ossil Rec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ed many extinct species similar to those that were alive t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mparative Embry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 by Ernst Haeckel provided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http://www.newscientist.com/data/galleries/dn16745-visible-embryos/haeckels-embryos.gif"/>
          <p:cNvPicPr/>
          <p:nvPr/>
        </p:nvPicPr>
        <p:blipFill>
          <a:blip r:embed="rId1"/>
          <a:stretch/>
        </p:blipFill>
        <p:spPr>
          <a:xfrm>
            <a:off x="2286000" y="990720"/>
            <a:ext cx="51055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ttp://2.bp.blogspot.com/_Wa2IHGiSq3I/S7GsBI9SYfI/AAAAAAAAAMU/0mE1mXSuWC8/s1600/embryo+at+4+weeks.jpg"/>
          <p:cNvPicPr/>
          <p:nvPr/>
        </p:nvPicPr>
        <p:blipFill>
          <a:blip r:embed="rId1"/>
          <a:stretch/>
        </p:blipFill>
        <p:spPr>
          <a:xfrm>
            <a:off x="5105520" y="228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000001183933d70a00d500f400ea005d4bcca95d_tn"/>
          <p:cNvPicPr/>
          <p:nvPr/>
        </p:nvPicPr>
        <p:blipFill>
          <a:blip r:embed="rId2"/>
          <a:stretch/>
        </p:blipFill>
        <p:spPr>
          <a:xfrm>
            <a:off x="533520" y="533520"/>
            <a:ext cx="3581280" cy="2876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112LONGIEMBRYO.jpg"/>
          <p:cNvPicPr/>
          <p:nvPr/>
        </p:nvPicPr>
        <p:blipFill>
          <a:blip r:embed="rId3"/>
          <a:stretch/>
        </p:blipFill>
        <p:spPr>
          <a:xfrm>
            <a:off x="152280" y="3733920"/>
            <a:ext cx="3962520" cy="2813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http://thewaythetruthandthelife.us/index/3_observe/3-2/3-2-15_animal/3-2-13-1_fetus-pictures_files/dolphin-embryo.jpg"/>
          <p:cNvPicPr/>
          <p:nvPr/>
        </p:nvPicPr>
        <p:blipFill>
          <a:blip r:embed="rId4"/>
          <a:stretch/>
        </p:blipFill>
        <p:spPr>
          <a:xfrm>
            <a:off x="48769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6840" y="304920"/>
            <a:ext cx="7467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a behind similar embryos lead to understanding of homologous struc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456840"/>
            <a:ext cx="7467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inor Geographic Var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alapagos Islands very important 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ed that each island had distinct species of finches, tortoises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ch variant was best suited for its unique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endelian Gene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ilable at the time, but not connected until 1930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3:42:53Z</dcterms:created>
  <dc:creator>ED18</dc:creator>
  <dc:description/>
  <dc:language>en-US</dc:language>
  <cp:lastModifiedBy>ED18</cp:lastModifiedBy>
  <dcterms:modified xsi:type="dcterms:W3CDTF">2011-12-05T04:13:52Z</dcterms:modified>
  <cp:revision>3</cp:revision>
  <dc:subject/>
  <dc:title>DARwinism</dc:title>
</cp:coreProperties>
</file>